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D4D-910B-472E-8DCA-811D593B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3D16-BA63-44AE-9220-EE497D2C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6EE4-8C4F-4EA0-BB60-E083724D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23F-C79A-4601-8DC2-E5039079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365-DEDF-441D-9D2F-4B2EB331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F8C3-B002-456A-9677-A0C086B7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A68A-728C-40C7-B2F7-53186A64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6AB-A91B-4961-9E83-7693CFB2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256-D8C0-4E5D-B828-49999F6E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9E3B-A0E2-4047-9DAD-D0791ACF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7CC-2E39-414D-AA0A-F40807E7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4A0-A0FA-4A0C-B20E-C78693B8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1E0F-7C99-493B-9576-F2AA5B85337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1871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58920" y="1124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2133720"/>
            <a:ext cx="248292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ZIONE q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di un pae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ne vanno all’ester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e cercare lav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4724280"/>
            <a:ext cx="2665440" cy="180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 italiani sono st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nti in molti paesi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he se meno di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,lo sono anche ogg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765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5013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4797360"/>
            <a:ext cx="165744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 princip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492000" y="5157720"/>
            <a:ext cx="358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2000" y="5950080"/>
            <a:ext cx="8636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515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5805360"/>
            <a:ext cx="792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515772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5877000"/>
            <a:ext cx="1008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35280" y="333360"/>
            <a:ext cx="1873440" cy="1008000"/>
          </a:xfrm>
          <a:prstGeom prst="rect">
            <a:avLst/>
          </a:prstGeom>
          <a:solidFill>
            <a:srgbClr val="faa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van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vere in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ro paese 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411240" y="1052640"/>
            <a:ext cx="32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08720" y="40464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04000" y="189000"/>
            <a:ext cx="1224000" cy="647640"/>
          </a:xfrm>
          <a:prstGeom prst="rect">
            <a:avLst/>
          </a:prstGeom>
          <a:solidFill>
            <a:srgbClr val="faa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83664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43640" y="981000"/>
            <a:ext cx="1224000" cy="1584360"/>
          </a:xfrm>
          <a:prstGeom prst="rect">
            <a:avLst/>
          </a:prstGeom>
          <a:solidFill>
            <a:srgbClr val="faa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ggire 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tu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ffici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semp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uerre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981000"/>
            <a:ext cx="935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1844640"/>
            <a:ext cx="2881080" cy="1440000"/>
          </a:xfrm>
          <a:prstGeom prst="rect">
            <a:avLst/>
          </a:prstGeom>
          <a:solidFill>
            <a:srgbClr val="b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 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 in un pae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no stranieri a viv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cercano lav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360" y="278136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93080" y="3141720"/>
            <a:ext cx="1295280" cy="1727280"/>
          </a:xfrm>
          <a:prstGeom prst="rect">
            <a:avLst/>
          </a:prstGeom>
          <a:solidFill>
            <a:srgbClr val="b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rattu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803640" y="486900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16720" y="5661000"/>
            <a:ext cx="1079640" cy="504720"/>
          </a:xfrm>
          <a:prstGeom prst="rect">
            <a:avLst/>
          </a:prstGeom>
          <a:solidFill>
            <a:srgbClr val="b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101080" y="4941720"/>
            <a:ext cx="71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40720" y="5661000"/>
            <a:ext cx="1403280" cy="576360"/>
          </a:xfrm>
          <a:prstGeom prst="rect">
            <a:avLst/>
          </a:prstGeom>
          <a:solidFill>
            <a:srgbClr val="b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/Alb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7:55:31Z</dcterms:created>
  <dc:creator>PC01</dc:creator>
  <dc:description/>
  <dc:language>en-US</dc:language>
  <cp:lastModifiedBy>PC01</cp:lastModifiedBy>
  <dcterms:modified xsi:type="dcterms:W3CDTF">2016-12-05T08:30:20Z</dcterms:modified>
  <cp:revision>3</cp:revision>
  <dc:subject/>
  <dc:title>Diapositiva 1</dc:title>
</cp:coreProperties>
</file>